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2BD-A5BE-47C2-AD7C-82DA41C1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DDF-5C8C-40B6-8CE6-58D9318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311-6856-4CEE-AF57-D367306F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ACE-55C8-4FFD-9A23-47E91113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C40-61A6-4397-9B38-F6CD3DC8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09A-489F-4D4A-93A7-E36D3E2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DD2-418E-4FF0-999F-042A57CF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202-9A48-42FB-AA16-825F3CED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30E-7BFC-4E02-958A-7F6B4A8B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CFE-11F5-4AEF-802D-09094F6A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F9B-9557-4133-927E-CE77A1C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8DE-788D-4B84-A276-36A3EB9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31F4-857D-4A03-84AB-55302FC0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E:/Prezentace/CHEMIE%20RVP%20G.doc" TargetMode="External"/><Relationship Id="rId2" Type="http://schemas.openxmlformats.org/officeDocument/2006/relationships/hyperlink" Target="file:///E:/Prezentace/CHEMIE%20RVP%20G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G, RVP G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506-AC10-49C9-BECC-BEDEE95B84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VP a všeobecné vzdělá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osmi a šestiletá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ZV (s některými úpravami) a 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Gymnázia čtyřletá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VP G (RVP G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F7E-00BC-4DD7-BCC1-1751CB596D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íle gymnaziálního vzdělá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klíčovými kompetencemi na úrovni, kterou předpokládá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bavit žáky širokým vzdělanostním základem na úrovni, kterou popisuje RVP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pravit žáky na další studium a profesní ž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52D-A09E-489D-9910-7364C50CD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líčové kompe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RVP G stanovuje celkem 5 K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 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komunikati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sociální a personál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petence obča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a rozdíl od RVP ZV nemá kompetenci pracov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odkazy s ohledem na další profesní život jsou součástí ostatních K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5A8-0F35-4AF2-B19C-232E38043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dělávací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Jazyk a jazyková komun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Matematika a její aplika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přírod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polečno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svět prá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Umění a kultu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Člověk a zdraví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Informační a komunikační technolog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cs-CZ" sz="2700" spc="-1" strike="noStrike">
                <a:solidFill>
                  <a:srgbClr val="990000"/>
                </a:solidFill>
                <a:latin typeface="Arial"/>
              </a:rPr>
              <a:t>(v oblasti Umění a kultura volí žák jen Hv nebo Vv, závazný je tematický okruh Umělecká tvorba a komunikac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ED6-9D9B-4344-A238-8CD0935C2A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ůřezová té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Vymezuje celkem 5 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obnostní a soc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kultur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chova k myšlení v evropských a globálních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ální vých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(na rozdíl od RVP ZV není zařazena Výchova demokratického obč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6018-C3E2-4B28-8C7C-3E3A354777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dělávací obsah vzdělávacího oboru je nastaven velmi obecně, umožňuje tak různé pojetí ve výuce ch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humanitní/přírodovědné zaměření gymnázi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CHEMIE RVP G.</a:t>
            </a:r>
            <a:r>
              <a:rPr b="0" lang="cs-CZ" sz="32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88E7-D113-4347-B6D6-24F3A2FD5C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8:02:43Z</dcterms:created>
  <dc:creator>Sendy</dc:creator>
  <dc:description/>
  <dc:language>en-US</dc:language>
  <cp:lastModifiedBy>PEDF</cp:lastModifiedBy>
  <dcterms:modified xsi:type="dcterms:W3CDTF">2006-11-22T18:40:10Z</dcterms:modified>
  <cp:revision>8</cp:revision>
  <dc:subject/>
  <dc:title>RVP G, RVP GSP</dc:title>
</cp:coreProperties>
</file>